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19B-1EE3-4B72-A51C-0422A897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74A-27D3-4F05-AD87-DE219E0B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5C4-1404-4C12-B08A-6D2B4EB4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101-A1C3-4E3D-BCC3-2EC2171E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E686-D9AB-4854-9C41-B0656434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C0D0-84A5-4869-A6DF-B5AF619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DA1A-3B9C-4039-AF25-8B5BDA1D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B67D-A9BD-44DB-99C7-4D79D155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E232-C6D8-4FA6-B848-0CFA8E61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5D6-D8CC-447E-A0E8-05155167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86AE-E895-4BEB-AE45-7AA48758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517-18A5-4EB7-8C74-5843B366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DAA9-ED23-4146-80E5-CDDE0D23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6B1A-4A21-4B0E-93F3-FD8EC64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2B1D-6AA0-41BF-A7E1-BCE837FE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1A29-C9D9-48E3-ADD3-491F62F9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79DE-E898-45BA-9DE2-74DABD19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29D4-0D1F-4100-978D-66CEF825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7A00-B4BF-4228-B032-A9F30CB5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2D6E-0334-4EAC-8C06-B1F3E011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A4BF-B2C6-4EB8-8A08-63C93A60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E860-AFA6-4267-B398-DF1A7E24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5B5-11F0-47A1-B31C-43227DF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6C77-5521-4990-92A2-C13FCF91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7D763-23B4-4B35-8410-024570C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4D0E-74D0-45C9-8FE1-9AC3A30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E212-9845-47B6-AB90-A37BCAED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7A5F-82C0-453D-B7F3-48FE307C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81CB-268B-486B-B99E-3822F904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82750-4657-4756-B46D-41D8C931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3AB-E9F8-4F7B-8448-B6A466C4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041-A153-4CC1-BE54-8812087E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812-B047-4146-9298-DABBBD4D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BED-F691-4266-9DD3-07371B63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692-BDE2-4F6E-AEA0-647BF071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F45-B672-470E-9D26-75FC1FF8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2C9C-8ADA-490B-B005-D3E0A6257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4491-4EAB-489C-B5CD-0F276F69AF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B039-780F-406B-9CCB-9F7403D987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odloga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89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АСЕ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Доц. др Катарина Парезановић-И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19400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332000" y="23004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 на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) техни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) медицинс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ирур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рапијске-биостимулатив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 са малом енергиј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а коагулирајућим деј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cce6"/>
                </a:solidFill>
                <a:latin typeface="Arial"/>
              </a:rPr>
              <a:t>Хируршки лас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хирургији се користе у виду ласерског скалп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моћу кога се оперативни резови изводе безкрвно,брзо зарастају и осигуравају потпуну стерил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рочито су погодни за операције на паренхимним органима, код гнојних и малигних обољ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6560" y="990720"/>
            <a:ext cx="822024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Терапијски (биостимулативни) лас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физикалној медицини и рехабилитацији се користе ласери ниске снаге-хладни лас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e-N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r-jod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полупроводнички ласер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к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ју с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 je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a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них д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на изл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ски лaсeр (600-1100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знатно се абсорбују у води и пигментима па дубље продиру у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Ласери са коагулирајућим деј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3200" y="2209320"/>
            <a:ext cx="8359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ски зраци велике енергетске густине изазивају денатурацију беланчевина,тј.коаг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ја је позната као фотокоагулација.Ова појава се користи за лечење аблације ретине ( одлубљивање мрежњач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ристи се за заустављање крварења код дијабетичне ретинопатије као и за заустављање крварења у једњаку,желуцу и цревима-аргонски лас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 скидање тетоважа, невуса и вер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Биоло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ко дејство ласерског зра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лот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слободних ради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хемијск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ендотокс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електр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o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лотни ефек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ергија ласерског зрачења се апсорбује у атомима и молекулима ткива,при чему настаје њихово кретање и трење,које даје топлотну енергију. Од ћелијских састојака најосетљивији су ферменти,њихова активност престаје најраније.Ово се дешава кад температура достигне 45 степени,на 55 степени настаје денатурација беланче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Механички ефек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д се ласерски зраци абсорбују у ткивима долази до напрезања ткива,долази до прскања ткива.Тај притисак код неодијумског ласера је 0,64 паскала.ово је посебно наглашено код туморског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хемијск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хемијске промене се углавном јављају на таласној дужини мањој од 500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m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аксимум апсорпције имају беланчевине и нуклеинске кисел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биолошки одговор зависи од оптичких својстава ткива изложеног ласерском зрачењ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Стварање ендотокс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ле озрачења могу се појавити токсичне материје које називамо ендотоксини.Од њихове количине зависи и прогресивност оштећења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електричн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 повећањем густине енергије ласерског зрачења у озраченом ткиву се јавља поље високог електричног напона. Ово доводи до промене електричног потенцијала молекула и ћелија и поремећаја електричних карактеристика озраченог тк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Историјат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вој квантне електронике почиње крајем прошлог и почетком овог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штајн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917. 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хипотеза о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дукованој емисиј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асов и Прохоров 1964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физику развоја лас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chawlow 1981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асерску спектроскоп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ff"/>
                </a:solidFill>
                <a:latin typeface="Arial"/>
              </a:rPr>
              <a:t>ТЕРАПИЈСКО ДЕЛОВАЊЕ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Биостимулатив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ћелијску деобу (митозу) и синтезу ДНК и РН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број колагених влакана и синтезу колаг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синтезу АТ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размену кроз ћелијску мембра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мења дејство ензима у базалном слоју епит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умулише “брза” бета-А влакна (ГАТЕ ЦОНТРОЛ)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имулише продукцију бета-ендорфир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4920" y="190476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мањује лучење простаглан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обољшава фагоцит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Имунолош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упресија Т и Б лимф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родужено преживљавање транспла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601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e6"/>
                </a:solidFill>
                <a:latin typeface="Arial"/>
              </a:rPr>
              <a:t>Т</a:t>
            </a:r>
            <a:r>
              <a:rPr b="1" lang="en-GB" sz="4400" spc="-1" strike="noStrike">
                <a:solidFill>
                  <a:srgbClr val="cccce6"/>
                </a:solidFill>
                <a:latin typeface="Arial"/>
              </a:rPr>
              <a:t>ехника примене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0200" y="2819520"/>
            <a:ext cx="6107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Скенирају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15-30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нуелни на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асерска акупун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Дозирање ласе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еквенција 1 - 1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спаст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- 6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алгет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- 6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утроф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ко 10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нфламато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ага 5 - 10 мW акупункту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- 70 мW скенирај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реме трајања 1 - 10 минута, 30 минута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ергија 4Ј, 6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...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8 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Доз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д свежих повреда почиње се са малим дозама па се касније доза повећава као и време трајања а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3040" y="609120"/>
            <a:ext cx="82137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78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АУМАТОЛOГИЈА И СПОРТСКА МЕДИЦIН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исторзије, контузије, тенд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тендоваг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руптуре м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, ентези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и ентезопатије, с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 прело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ОМЕНE НА КРВНИМ СУДОВИМ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рикси, улкус вар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сум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b.Rejno..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Е БОЛЕСТИ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акне, фу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ули,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херпес симплек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х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рпес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зост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нaлне фисур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ГИЈА И 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ретрити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днексити, ендоцервицити, ерозије грл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,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маститис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ЛМ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лауком, аблација ретин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мигрене,парезе чак 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. facialisa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ишићне атрофије и дистроф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УМАТ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дегенеративни,ванзглобни,запаљенски у фази ремис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ТОМАТ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парадонтозе,стоматити, промене на слузокожи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11280" y="1666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Контраиндикације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ace-m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рудно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еца у развоју у пределу зона окошта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лиг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ебрилна ст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кутна запаљенска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200" y="32464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45720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Мере за</a:t>
            </a:r>
            <a:r>
              <a:rPr b="1" lang="sr-Latn-CS" sz="4400" spc="-1" strike="noStrike">
                <a:solidFill>
                  <a:srgbClr val="ccffff"/>
                </a:solidFill>
                <a:latin typeface="Arial"/>
              </a:rPr>
              <a:t>ш</a:t>
            </a: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тите од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 гледати  у ласерски сн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очаре са посебним фил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Дефиниција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ласерске свет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ight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plification by </a:t>
            </a:r>
            <a:br>
              <a:rPr sz="2800"/>
            </a:b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imulated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ission of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ма ус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ер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г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н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к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херентне монохроматске свет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понтана и стимулисана емисија 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Особине ласерске свет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73120"/>
            <a:ext cx="38862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кохерентна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ан правац простир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монохромати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на бо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усме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648320" y="2373480"/>
            <a:ext cx="4038480" cy="3136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Основни елементи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001000" cy="27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Активно сред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умн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фотоне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Више од половине честица су на вишем нив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серска пум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звор енергије за поб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езона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од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пут емитованих фотона и њихово дејство на активно средств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Чине га два паралелна огледала између којих је актив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стем за хлађ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         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80720" y="19807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таласној дужи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са 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400-780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са не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780-1500н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ема извору поб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) опт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) са коришћењем самостално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ж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) електројониз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) топло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) хемиј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) рекомбин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На основу активног материјал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а) чврсте (рубински, неодијумс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б) теч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ц) гас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д) молекулар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е) јон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ф) електројонизацио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г) гасодинамич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х) хемиј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ј) плазме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начину емитов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континуи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импулсн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09:00:25Z</dcterms:created>
  <dc:creator>WIN98SE</dc:creator>
  <dc:description/>
  <dc:language>en-US</dc:language>
  <cp:lastModifiedBy>katarinaparezanovicilic@gmail.com</cp:lastModifiedBy>
  <dcterms:modified xsi:type="dcterms:W3CDTF">2020-09-26T16:53:27Z</dcterms:modified>
  <cp:revision>56</cp:revision>
  <dc:subject/>
  <dc:title>LASEROTERAPIJA </dc:title>
</cp:coreProperties>
</file>