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B62-EBB8-4E5E-9C5C-26229A48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9E3-2F42-408C-8746-BDEF3D9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E71-E983-4748-9829-070EAA6A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F11-9E3C-4894-ABB9-74FA2102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CA7-659D-4EEE-AF3C-98AF69D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BB9-59EF-4B56-93A2-43CD3585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16D-AA93-49DF-8B95-44A9098D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416-1FBB-4B63-B617-E9D0FA18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F7B-0122-4D8E-8173-D0DA03EE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12C-42D8-4E22-ACA8-839415A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C4D-0B01-4707-93BE-3C4C5D29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6AA-1DDA-42F3-BB2A-2F83792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742-0F18-4FB0-8544-5C50FF7D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11280" y="46368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тарина Парезано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 Илић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МАГНЕТОТЕРАПИЈ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1332000" y="1746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1332000" y="210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Arial"/>
              </a:rPr>
              <a:t>Дејство магне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елуларни-дејство на ћелијску мембрану (ед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неуровегетативни-преко хипоталамуса на ЦНС и 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ендокрини систем (отпорност,сан, спастици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иркулаторни-преко надбубрега и хипоталамус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(рефлаксно вазодилатато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Arial"/>
              </a:rPr>
              <a:t>Индикације за магнет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мијалгије, периартритис, епиконди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артрозе, арт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цервикални и лумбални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дисторзије, контузије, луксације,фрактуре, 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васкулопатије, торпидни улкуси разне 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херпес зостер,постхерпетичне неурал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екцеми, акне, фурункулозе, дерматитиси, псор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Контраиндикације за магнетотерап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гравид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оремећај коагулације-хемофи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аце-мак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јувенилни узр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хипотен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малигн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фебрилна ст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активна форма туберку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Ис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одерна али не и нов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инези су пре ви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ше хиљада година стављали магнетну руду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на поједине о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гипћани су користили блато из реке Нил богато магне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 веку Wiliam Gilbert, откривач електрицитета,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поручује магнете за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I веку(1723) Glaisault производи прв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вештачке магнете, али тек 1777. год Le Nobl први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дставља вешта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ч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ке магнете медицинском св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Данашња истраживања су усмерена на испитивање вез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између геомагнетских поља и биообјек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но поље човека износи 10 на минус 14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Најснажније биолошко магнетно по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љ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 човека ј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магнетно поље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редност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реко гипса,завоја,одеће,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обро се комбинује са свим ост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лим аге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остоји минимум контраинд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одмах по настанку повреде или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Недостац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човек нема рецепторе за магнетно поље,</a:t>
            </a:r>
            <a:br>
              <a:rPr sz="2400"/>
            </a:b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 нема осећај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ејство је блаже, захтева дуж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дела магнетног поља у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А: 1. ст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променљива: а.импулсна; б.алтерн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импулсно магнетно поље настаје проласком импулсних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  (галванске) струја кроз маг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алтернативно проласком наизменичне струје кроз маг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Б: 1. нискофреквентна–до 100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исокофреквентна више десетина МХз-загре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3. мешовита – високофреквентна појла која се генеришу у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серијама раздвојени паузама.Фреквенце серија су из високих 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фреквенца.,пауза су из ниских фреквенца. Индукције су м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како би се избегли термички ефекти који увек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прате високофрекв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Ц: 1. природна-геомагнетно по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ешт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Примена магнетног по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Безапаратурном техни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офоре - ситни округли или плочасти предмети изграђени од магнетне руде са примесом с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Апликују се на оболили део дела и носе 2-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Апаратурном техником-користе електромагнетно по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апаратурној магнето терапији користе се уређај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нис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висо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71640" y="1201680"/>
            <a:ext cx="81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Нис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2-10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Висо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100-64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Модерна апаратур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има фреквенцу од 5-640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Електроде код магнетотерапије 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анте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соленоид</a:t>
            </a:r>
            <a:r>
              <a:rPr b="1" lang="sr-C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6560" y="2054160"/>
            <a:ext cx="8548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sr-CS" sz="2600" spc="-1" strike="noStrike">
                <a:solidFill>
                  <a:srgbClr val="333399"/>
                </a:solidFill>
                <a:latin typeface="Arial"/>
              </a:rPr>
              <a:t>малa дозa     великa doз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индуkциј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B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mТ)                     3                   5-1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фреквeнца f (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Hz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               &lt; 6                 25-5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трајaње трeтмaнa Т (m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in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5-10               15-3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број третман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N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путa)          5-15          2 нед.-3 мeс.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31480" y="10886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До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рање</a:t>
            </a: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6660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римен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6720" y="1959120"/>
            <a:ext cx="75610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Локалн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Општ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Надбубрежна жлезд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хронични ифламаторн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реуматизам, артрозе, упале венског порекла, ран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Јетр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инфекције, некрозе,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консолидације костију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зин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теже трауматске повреде, едеми, хематоми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Епигасриум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</a:t>
            </a:r>
            <a:br>
              <a:rPr sz="1800"/>
            </a:b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поремећаји периферног крв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Лимфних чворов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проблем лимф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акрум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артрозе, исцхиалги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Терапијска дејств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локална вазодила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алгетс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едематоз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трофи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стварање ка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зарастање рана и улк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4:16Z</dcterms:modified>
  <cp:revision>37</cp:revision>
  <dc:subject/>
  <dc:title>Slide 1</dc:title>
</cp:coreProperties>
</file>