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986D-8165-4814-82C4-768D79C1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EAE-8C7F-4E6B-A015-9AA03C9E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94E40-D5BA-4EA1-BDE6-031AA1D6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C634A-BC33-4765-84F0-F3F912E8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D0FC2-BAD9-4596-AA80-369D6AD3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890C2-2615-42BE-A101-AF6A203E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25CE6-24BF-4009-9828-29F38713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10200-7839-4610-8722-263FB5F4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1B91A-F337-49BA-84D7-9B416D8B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52E2A-E0B9-4767-B561-94F72BD8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0E439-2372-45E0-93C6-4D8E26E2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E210E-EED4-4BDC-93C6-CB5E190D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B79-4F95-4C8A-8B96-E34B804C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7CA8D-DD64-4B05-967F-B9810EBA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4F687-5CD9-43BE-A793-E4C2833A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4A65B-E349-4E9D-88C1-95C4FE1B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384ED-FEED-4525-8A51-4E38B743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E3868-EBA0-4C0D-B527-176E69C2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45DE5-8C8C-4129-A04D-9484C879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8EE46-9E95-4DAF-B7DF-BC8C7E09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02B6F-87B7-436F-AFE8-C2E875D8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A4C25-20C7-45B9-A102-78ACD8F0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5E15A-A75A-4E7B-9FB9-717D4713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F773-43F6-4AF3-880F-11466677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ABA8C-A5A3-484D-9280-B8B55748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2B102-8196-4ED0-8986-40932160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FC6FE-2346-4AC9-AC0F-1DE744BE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28DB2-6EC1-4EDF-98EA-58B4A9C1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D2E2B-40AF-4B2E-80D4-A3425F14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5744E-F7E0-4327-9C43-8D8B14E6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62677-68E8-4B14-986B-4649616F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147D5-B10E-41AB-A070-A39C6EAC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9F047-58F1-4B0D-B83F-29D27021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804D5-BA5F-4CDE-9B9D-70C3C0C2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56EA-6F7A-4AF6-920D-7974B188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976FC-73C1-4FA9-A2D4-F18F7F13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438A6-5C5B-4345-86BA-42CF280E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D4C87-85F4-4F2D-8CF1-59C27C17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6C002-C381-457A-9386-F00FCFAA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4318B-BBCB-421B-AF9A-C7DFED01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245E3-AD3B-4912-B70F-02B5A2BF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9F0E3-B1E7-46AE-8BC9-562F13F2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E0CA2-76F9-4642-8326-180F6F87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203FE-F7CA-4746-9FDE-50E817A5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AE9EB-291F-490A-939A-48131866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CD53-3539-46B7-BD47-3E08DD55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9365F-1CEE-499E-8B7A-6A190AF4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0435F-5B11-4AF8-A1D7-0EE4B7E4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E23E4-115F-46B4-81FE-79289E71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D4E34-A32E-4578-AE48-DCA80014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1B2A3-C9EE-4C7C-917D-F03CE5F3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E18D83-3B2C-48FC-9609-A0B72849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7D454-2C5C-497E-9087-06DC5973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0CFAD5-39BC-4995-A18E-6FAF9D40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D35BC5-8AB3-44C2-AC37-6C6ACA13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A3A75-AED4-457F-86E0-4A44CA75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5475-3BC0-4330-8246-2A7E7DEF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0FCCF-74EE-4326-907E-4EDB9010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D570B-FF58-4769-AC92-0FED6D1E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EF331-BABA-47D6-8B67-E9941740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B139C3-03EC-4BF0-8AC2-69EBCF26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D6750-0194-4E09-9E31-22B9A9CF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E51BD9-E5E6-406B-8BA3-C8924F7E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F1E5A-6322-442A-9E80-58FA04C5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F6EA0-8D13-4BD6-A13B-E7E75F30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405E5C-7E89-4A76-BCBC-2506E789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9A839-42F2-49D8-988C-999E4644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5938-EBB8-4E25-8DF1-EBCFF4FA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DA93A5-3E6B-423C-98E6-E49D6E39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C89062-2A6B-4328-877D-094CE932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95B39-D7D5-4902-9D53-F43E3E0B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5D213-0309-473A-92F4-332469E4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A8E45A-DCC9-4EC0-8CB6-42055C42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6E3051-E883-4BAE-B620-FD7D8292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922A4-2329-4B95-9F50-42F23794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2DD33C-A12C-45A3-96D2-47B6798A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31C26-A756-4AF9-8B92-A2456FF3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5CD323-3DCE-43CB-BDF8-A35D7E62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F12F-2093-437E-B60C-4BB37509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1C0EE6-0138-478B-AB6F-3EC8415E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9D24BE-6AF8-4CCF-B584-4FF107A7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784FBC-AC96-442D-966C-E9288DAE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3A30B-A0E2-4CC1-82A1-70B0F161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B581D6-CCCE-4DE8-9C37-75041CFA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AC7805-9F34-4051-B5D0-0A610B63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90470D-E209-46D6-B8E2-E555C302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6009D5-7AA0-4E78-B48F-D990D9D2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4BDA97-C930-495F-92BF-E5BBC656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5DDFA2-5FBE-48B9-A819-53DEF733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CCC2-A7FF-4497-97F1-90C27612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DEA8E9-6646-4984-9040-2514EA3A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3FC94F-3C57-4FA5-B1AF-59954B08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421395-F3A6-4959-B3B2-7B978745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C45ADA-2725-4E85-B991-D3B23A5C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8B9450-D244-40ED-A1DF-1626B18F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3AB394-B2D4-4EA6-888B-9AB4F8F6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D59C96-05E5-4BDA-8BA5-C1DCB275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BE4AB8-0DB1-4808-AF09-FA622B72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1BC342-6D6D-46B5-AB87-514CC10D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F9E577-ED8D-4DC2-9356-23FCECFD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E324-914F-402F-B49B-C182309F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B08A36-3C04-45C4-87BA-FAC8FA73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5B42C7-E024-4CF1-B07D-B6781E07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A93FB3-2718-4979-97DC-5A9B3169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3775AF-6ADD-4E79-93FB-AAADA126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D42F99-EEC7-4D9F-AC9C-49B4EED3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D06304-E04E-4278-B373-60345E04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28E971-4BC9-42ED-89CB-F6000BAA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A95917-D53D-404A-8756-F31D772F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14745A-4698-4F2B-BA2B-2749748A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173CF1-1253-4756-A9A9-B69F7D7D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D07-92E5-40FE-BA55-AFD9E3B5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287D-413E-46F0-87CD-6D76EB32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DC5841-F73A-46AE-B1F3-867C61F2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D183FB-4502-4425-840B-D7539807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B5029F-4A51-4C75-B765-D038DBC9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1E22C5-A439-4146-A827-1F6BB96A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AFCA45-CA9B-4178-B1E1-9F9687CB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149750-78B2-4808-8D3A-186B1905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84D35A-515C-486C-B521-9958719A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3876F4-1EE1-4ED7-A231-5F2B8586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0208A3-C52F-41AA-82B3-20D042B9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5451E8-DAA2-4F02-9C0B-F078408E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39AA-6EF0-4366-8D64-4CF568EF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2803CF-20E4-40DA-AD41-13476027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F20031-CEB7-4A77-8864-7AB36CCF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505BF1-E285-41A8-B4F3-79821C50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EA6F66-DFBE-4AFB-9DC0-31437C2B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B64575-9C02-4C02-8EB8-66128D5F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A3DD53-279A-4DFE-A80E-A00AFFD1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FBDCFB-A2BD-460E-B058-9C45C3B2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11CA-9C98-4F58-AF60-89AD5EB1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C69E-C3C7-4FC3-8EAF-704AA14F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1EB6-CF6B-4627-BBF6-96A962ED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67D13-11EC-4153-8C5F-E8881477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BAD6D-9FC0-4D4C-95B9-1CA469CF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D91EE-31E2-46CE-B80A-1853F15F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59BF2-2EF0-4613-9F8F-D2C34BB0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39F2E-F34B-403C-9EC6-4956FDC5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72D9-27E3-4F74-917A-3CFBE1B0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F02C8-5A79-48B2-BB7E-EFD93984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6D126-8B92-481B-992D-F2301C19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DD0DE-636F-4BDF-862F-A72FDA03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5FDD4-92EA-44CA-A2EE-4EF8ACF2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F6163-BF0C-4B31-9C5B-D2B11BAB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04307-87DE-4D5B-93B6-23746069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2CBCF-D8BB-43EE-9588-E5F524E2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360A4-2522-4844-893B-92A65E79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F3356-8FFF-449A-A4AD-D82DF5FE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E564B-0904-4DD4-8AC6-9EA79EC1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D0F2-300C-49F9-9008-F6B101BE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26C4C-9FCC-4317-91EA-73BA8F88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FA3B2-C7C8-4E80-9BD1-B66725DA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FB772-1A8C-492A-B980-A3A314C1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36F02-E612-4BD0-AE35-472FCD18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70633-7969-41D6-A503-C0B1F0A8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DE780-B1DA-4F29-B43E-CEDD184A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2B533-EFE1-43B4-B50E-D75C73C0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2F89C-BE51-4D1D-9F87-B741E522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F29F7-72B6-497F-808B-1DDCD7BE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6C37D-A16B-497F-9E60-5FF29FDB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66A-0492-4CE7-8C93-E473D956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515A3-A316-4D36-B163-B3111D2B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2751B-2482-4FDA-8594-92EB61A4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CE4A9-D4BC-43E0-9359-5029E79E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858F0-CFC0-43B1-ADD3-1F9A364F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B2414-AE1C-4A44-9827-B00F8221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F64C1-5350-4C04-9E01-C824BDDA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23750-1313-4653-BDB7-F873E409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EEDF5-7B3A-47B8-9D5B-B45048D3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3C140-12C4-4964-971F-F4494F03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52DB5-2D58-48E8-BF7C-4E23D47D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34DB-0F82-4AE8-A28E-F9734564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25941-402A-446D-B640-ADA71736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1E879-72F0-4ED3-BAF9-02371C88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E715B-E647-49BC-ACBA-9C080DE9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EE9D0-2A18-4F3C-8517-D210B7AE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F67FA-C77B-47F1-BC2A-F412D2BC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88E2A-784F-4F06-88D0-B2249422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AF5D8-9B77-4C05-81BF-554DE3E8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9EEC2-B241-478C-974B-6566699D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082A3-D49A-4804-9734-893ADC8D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C41CB-C207-4355-A483-46EBAF2B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F2F-ADFB-4F2E-814B-B77EDD30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5F89F-585F-4D2E-9EE2-6B6CF316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6F6E1-C05B-4814-97A4-4ADBFCF0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6B12C-F6CA-4E5C-BD87-CB138765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FC64B-217B-42D7-9232-895C3621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B8B95-0E8B-4034-A763-C39B226E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C5B65-DF2A-4AC5-B6B3-F885B588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4933F-278B-4FC9-9014-71A81EFC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10D7F-AE26-4CC2-9FC3-DDF688CF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38592-B145-490A-80CC-5AF35DD0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3ABF8-764C-4D3B-8846-8E98514F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B36-0B0E-46AA-8D78-14BFC919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9562A-21CC-4697-91FE-7F0187A6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2E83C-7D1B-437F-AD8A-61126A46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17EAD-E1C6-4165-B443-6F410F04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C4F6C-C4D7-4195-8504-44239A5D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52987-AA78-4462-8BBC-47213C33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94989-8BEE-4521-AF0E-CD19F381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EFAB7-6453-4553-B0F6-5E8B805F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D3593-8888-41D0-9E36-2247B863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FCBF3-F80F-4A60-9FD2-1736DA5A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8D23C-40F6-4A3C-8496-96720759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2CF-13C1-4659-AA4A-0EB4657D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19D65-43B5-4269-8F91-6C43FF56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F85E2-463D-41B9-8A64-6652DECC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51706-CF50-43C5-B365-C78DFB69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A4A7F-54FE-42E4-85C9-49CD798A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503C6-C88D-4520-A66B-FBCB14A6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0978A-5C95-477C-822D-E155BFD3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678F3-3B39-4CBE-B259-343A00F3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376EF-9DB3-4E03-A2D2-D6BE54E8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49B8F-698F-4F64-9F30-FAFC3498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5115D-9D94-4AF2-A378-75F2E212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313D8-23B3-4A31-8FC4-13AE1BFF5B6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8FDA5-94C7-4BA9-A620-9C2D9191DDF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6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4504A8-E8BD-45F2-9828-2C2374C25C5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85154-B3EB-4246-BC4D-62F6C0D219F0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0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61" name="TextBox 12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5C6A2-5981-47FC-9872-E65710A4680F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9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1A8C5-947B-41B4-9A2E-E1F6C6C0C20D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6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D8FC0-B507-4CDE-9931-D31650296CB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03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A9AC2-8BF5-4ED2-9174-B93371C9D84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0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A8843-56DA-40CC-BC60-2015907BF1E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7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8"/>
            <p:cNvSpPr/>
            <p:nvPr/>
          </p:nvSpPr>
          <p:spPr>
            <a:xfrm rot="5400000">
              <a:off x="5362920" y="1959480"/>
              <a:ext cx="528624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95" name="Rectangle 9"/>
            <p:cNvSpPr/>
            <p:nvPr/>
          </p:nvSpPr>
          <p:spPr>
            <a:xfrm rot="5400000">
              <a:off x="7289280" y="5462280"/>
              <a:ext cx="143352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5E678-445C-4926-AD45-663D0B9ADB8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9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9AFB3-2161-44EE-82EB-2B3FE2C6D56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43F81-5A4F-4448-9C91-74DC0014381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10"/>
            <p:cNvSpPr/>
            <p:nvPr/>
          </p:nvSpPr>
          <p:spPr>
            <a:xfrm>
              <a:off x="0" y="27288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7710840" y="27288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AC4E9-ADBF-475F-B4A8-1C7A8EAA81C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8D9CC-6F42-45D4-BF1E-F3CBD46101E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4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FC7C8-0461-40C8-9C95-7FBAF472739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81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FE28F-2E77-4C1D-BB1A-38842746C595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8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DDA7F-291B-4A1D-AFCC-FA223917A58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2896E-7157-47FC-BCD4-8D60FADC47E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280" y="2743200"/>
            <a:ext cx="60692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800" spc="-1" strike="noStrike">
                <a:solidFill>
                  <a:srgbClr val="ffffff"/>
                </a:solidFill>
                <a:latin typeface="Trebuchet MS"/>
              </a:rPr>
              <a:t>ТЕРМОТЕРАПИЈА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684360" y="5516640"/>
            <a:ext cx="610704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Доц. др Катарина Парезановић- Илић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99640" y="752400"/>
            <a:ext cx="652788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Циљеви </a:t>
            </a:r>
            <a:br>
              <a:rPr sz="3600"/>
            </a:b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код примене топлотне 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899640" y="2336400"/>
            <a:ext cx="65214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1. Аналгезиј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2. Релаксација (мишићни спазам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3. Хиперемиј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4. Повећан екстензибилитет колаген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5. Убрзање метаболичких процес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Индик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971280" y="2336400"/>
            <a:ext cx="784836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1. Субакутна и хронична мишићноскелетна стања 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   (тендинитис, теносиновитис, бурзитис, итд.)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2. Бол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3. Артритис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4. Контрактур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5. Релаксација мишић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6. Хронична инфламација (посттрауматска стања, 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    РА, дегенеративни артритис, ...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Контраиндикације </a:t>
            </a:r>
            <a:br>
              <a:rPr sz="3200"/>
            </a:b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за примену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ermoth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899640" y="2336400"/>
            <a:ext cx="770436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Акутна траума, инфламација, хеморагија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Може да погорша акутну инфламацију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штећење циркулације (исхемија)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в. метаб. активности може премашити капацитет арт. васкуларизације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ремећај коагулације (нпр. хемофилија)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Велики ожиљци: ожиљци су аваскуларни и не могу добро да расипају топлоту: Малигнитет (повећава потенцијал за раст и хематогену дисеминацију)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пште контраиндикације (когнитивни дефицит, оштећење сензибилитета, и др.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Облици термотерап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971640" y="2133360"/>
            <a:ext cx="64497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инотерапиј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елоидотерпиј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анготерапиј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Терапија топлим песком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Терапија топлим ваздухом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Гли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ау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ПАРАФИНОТЕРАПИЈ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900000" y="2336400"/>
            <a:ext cx="73440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инотерапија се обавља помоћу топлих парафинских облога и потапањем екстремитета у парафин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оред тога примена парафина се спроводи као маска код парализе н. Фациалис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ински спреј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ински калуп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042920" y="752040"/>
            <a:ext cx="6384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САУН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533520" y="2336760"/>
            <a:ext cx="821520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ауна је специјални вид парне коморе. Саграђена је од дрвета. Под је тако</a:t>
            </a: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ђ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е од дрвета. У тој просторији су смештене клупе. На најнижим клупама где је температура 60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 C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или на највишим клупама где је темература 90-100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 C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. Обично је боравак у сауни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20-30 мин. Након боравка у сауни узима се хладан туш.Током боравка у сауни расте температура коже и до 40 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C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и организма до 39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 C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. Долази до профузног знојења. Понекад се излучи и 200 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ml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зноја. Убрзава се пулс, пада дијастолни притисак. Примењује се обично 2 пута недељно. 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ауна има снажан стимулативни ефекат на организам, повећава општи тонус и радну способност организма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КРИОТЕРАПИЈ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610920" y="2336400"/>
            <a:ext cx="80643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Рецептори за хладноцу се називају Краузеова телашца и има их највише на лицу - око 20 на 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cm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2. Примена криотерапије треба да буде кратка, јер проду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ж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ена криотерапија изазива парезу крвних судова и успорење крвне струје и јавља се осећај хладноће а затим дрхтавица. Из тих разлога треба се држати по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Kowarschik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у следећег правила: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"кратко и хладно".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цијенти третирани ледом у 90% случајева имају смањење гамма спастичности, а ефекат се одржава чак 10-12 сати по престанку процедуре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Терапијски ефекти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899640" y="2336760"/>
            <a:ext cx="741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риотерапија делује аналгетски. Апликацијом леда долази до смањења надражљивости и проводљивости нервних структура. Аналгезија се може запазити код посттрауматских стања где имамо реактивно запаљење и едем. Смањење едема доводи до смањења притиска и надражаја на периферне нервне завршетке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rebuchet MS"/>
              </a:rPr>
              <a:t>Техника</a:t>
            </a:r>
            <a:r>
              <a:rPr b="0" lang="sr-Latn-CS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Trebuchet MS"/>
              </a:rPr>
              <a:t>аплик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971280" y="2336400"/>
            <a:ext cx="72723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Локалн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паковањ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Имерзиј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(2-3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мин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, 5-6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пут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Криомасаж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субјективни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осећај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жарењ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Лако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испарљиве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ечност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Cryo-cuff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метод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(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до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48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сати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Хладн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вод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7129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Индикације за примену криотерап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мишицни спазам након повред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веже повреде меких ткива 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ток и бол зглобова код запаљењ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пастичност код оштећења гамма моторног система (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Sclerosis multiplex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водна терапија за примену кинезитерапиј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алгодистрофија у првом стадијуму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92360" y="76464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Т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Е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Р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М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О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Т Е Р А П И Ј 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1692360" y="2336400"/>
            <a:ext cx="57290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загревањ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ел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довођењем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оплот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811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811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хлађењ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ел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одузимањем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оплот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онтраиндик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971640" y="2336760"/>
            <a:ext cx="741672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лцерације у периферним крвним судовима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(артеријска оштецења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ртеријска оштећења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</a:t>
            </a:r>
            <a:r>
              <a:rPr b="0" lang="sr-Latn-CS" sz="2400" spc="-1" strike="noStrike">
                <a:solidFill>
                  <a:srgbClr val="ffffff"/>
                </a:solidFill>
                <a:latin typeface="Trebuchet MS"/>
              </a:rPr>
              <a:t> III 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rebuchet MS"/>
              </a:rPr>
              <a:t> IV 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стадијум по </a:t>
            </a:r>
            <a:r>
              <a:rPr b="0" lang="sr-Latn-CS" sz="2400" spc="-1" strike="noStrike">
                <a:solidFill>
                  <a:srgbClr val="ffffff"/>
                </a:solidFill>
                <a:latin typeface="Trebuchet MS"/>
              </a:rPr>
              <a:t>Fontenu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оштећење сензибилиетта на хладноћу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алергија на хладноћу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morbus Raynaud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стања након промрзли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Trebuchet MS"/>
              </a:rPr>
              <a:t>ТАЧКА ТОЛЕРАНЦИЈЕ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971640" y="2336400"/>
            <a:ext cx="64497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Тачка толеранције је степен загрејаности материје који још увек не прави никакве штетне последице на организам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За сув ваздух тацка толеранције је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100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граница толеранције за воду је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45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, 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 парафин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65</a:t>
            </a:r>
            <a:r>
              <a:rPr b="0" lang="sr-R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, 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елоид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50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СПЕФИФИЧНА ТОПЛОТ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971640" y="2336400"/>
            <a:ext cx="64497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оличина топлоте измерена у калоријама, која је неопходна да се 1 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gr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неке супстанце загреје за 1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0 C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назива се специфицна топлота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042920" y="752040"/>
            <a:ext cx="6384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ТЕРМОТЕРАПИЈА </a:t>
            </a:r>
            <a:br>
              <a:rPr sz="3200"/>
            </a:b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У УЖЕМ СМИСЛУ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1042920" y="2336400"/>
            <a:ext cx="63784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ласификује с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рема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 дубини пенетрације топлот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 начину трансфера топлот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рема дубини пенетр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971640" y="2336400"/>
            <a:ext cx="64497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Površn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npr. toplotn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pakovanja,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fluidoterapija,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IC zraci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Dubok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npr. ultrazvuk,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kratkotlasn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dijatermija,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mikrotalasn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dijatermija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ПРЕНОС ТОПЛОТЕ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971640" y="2420640"/>
            <a:ext cx="792144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ондукциј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(провођење топлоте)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Радијациј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(зрачење)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онвекциј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(пренос топлоте преко неког медијума –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     топлотно струјање)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Биолошка деловања топлот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533160" y="2336400"/>
            <a:ext cx="83595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Хемодинамск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Вазодилатациј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Смањење хроничне инфламације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овећава инфламацију, едем, и крварење 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(егзарцебација акутних инфламаторних повреда)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Неуромишићн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овећава моторну и сензорну проводљивост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971640" y="2205000"/>
            <a:ext cx="7704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Ефекат на зглобове и везивна ткива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мањење мишићног тонуса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повећање екстензибилитета колагена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мањење укочености зглобова</a:t>
            </a: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Аналгетско дејство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Остало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општени ефекат релаксације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08:06Z</dcterms:created>
  <dc:creator>WIN98SE</dc:creator>
  <dc:description/>
  <dc:language>en-US</dc:language>
  <cp:lastModifiedBy>katarinaparezanovicilic@gmail.com</cp:lastModifiedBy>
  <dcterms:modified xsi:type="dcterms:W3CDTF">2020-09-26T16:54:52Z</dcterms:modified>
  <cp:revision>38</cp:revision>
  <dc:subject/>
  <dc:title>Balneoterapija</dc:title>
</cp:coreProperties>
</file>